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145-0E87-4FE6-881E-A697AFEA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F6B9-0A93-4381-A4DE-38B0CB18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CCE4E-3D29-42E0-A0C7-6F668616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397C0-1740-4CA1-A486-1DF7D099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A692-5A6D-4003-B53C-333FCEE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6D8D0-A6E2-4329-9C8B-124E84F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6FE2C-25F3-421F-A5D2-C7099BDD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812AB-1CA0-4C52-8595-285CB27E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C092A-D780-4A45-BDD1-8DCBE09A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0B94E-CEA9-4B78-9C46-AB62BE2B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9DBBC-871A-487A-96DE-957EB5DB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F55226-FEF6-4D2A-8484-DCCB8E16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942-1A5C-488A-885E-8F1981C2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8399D-44F1-49A9-B78C-AC4828C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63954-8631-42CA-843D-30763A7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AF3FA-A6B9-4BD7-86CB-36CCE054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571B0-4947-4179-8C5C-BE857764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D38B7-F87C-44F3-B836-C3CE22CE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EB996-A1CE-4F9A-8CE5-0AA56C7A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7AD6B-A063-4139-A21B-65D084F1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47950-2033-4959-8EA7-693506B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3A3B8-5416-4670-9846-4A43471D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38578-5BC1-4DE6-B573-E2F92815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04A-B1E5-4E6A-87E5-5542142E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3F6B2-5CF5-4764-8025-89DC75C8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AC91A-538B-464C-8A82-C0E5EE47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5DA20-DE5B-4FEC-B55D-D42A221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7C2A4-E873-4AE7-ACE0-D27A33B1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EDA76-761A-4761-9D3B-DBF3025C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82EA8-7F06-4E8D-81B6-14233211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676DA-26B8-4DB7-9615-215F6172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4B8CC-972F-4397-B5FE-8E9300A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4B095-B1BB-4313-A3B4-02F553B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EC9F4-BE7E-4DF3-9DC0-C2A8C7D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A123-37CA-4594-8DF0-73C91702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5F604-6765-48EC-9D9D-ADBBA482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E14FE-1407-49BA-8B86-7766B65B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035D-FF19-48FF-AB89-B6A61687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5237C-866A-4AAB-97FB-450EE1B9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74D6D-FD7F-4669-A4E3-CFA7A0A0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AA4D5-9192-4D45-B9CD-D135CE0D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6D313-3439-4B70-AE19-2780B4A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A8F88-1FD7-4E64-BEDC-175FA2A1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6B577-125B-433A-83EB-55CB0AA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BE1A8-3B87-4784-8927-E1C22EF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A79-22C3-42EB-A9B2-2FBB199D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FF91E-91B6-41BE-98A6-22F1B8DB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16D48-01EC-4EFB-8573-6CCA040C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C21F5-1EBE-4522-84C5-9F8F763F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362B2-F59F-425F-9A60-052FF982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62E87-F8E9-40BD-AFA2-02F24F25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2B4910-9B55-42F1-A946-97DBB2D5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B5295-22F0-46B8-9BCA-2DE02A13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22FD5-8C55-4212-B0B9-311D52FE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7BC50-6A60-4B89-A895-E7C6060E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5098E-6F6B-443C-97F6-C8AE5200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C4A2-31B9-4F4E-8E69-14CFEA17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B2F94-CECF-4D53-9857-562038A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57AF7-2642-46B5-9004-AF9615C2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5EBE6-FFF6-43EA-8101-862F98D0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55795-3A6D-4A27-B743-DE95325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8AC2A-5B72-4CFF-A6C2-2F73EE6F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992F0-1E1B-4901-A124-AEDB1E7C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30891-4F4C-42C3-8324-E895C4D0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F4C17-CFBB-40CB-BC1D-9270F93A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E269D3-FF15-41D6-B922-AE0CEB5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BC36BD-1039-4238-80FF-4009F148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AA8E-401B-4747-9C60-E067062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4CEFB-CC0F-4B47-9A69-856AC831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6DCD6-923C-4A17-A0E7-F9FC0DB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19A4E-923D-4B4D-8731-ACA2DE3B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07DF4D-6193-491F-8B15-8BF85B2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C24EE-759A-4D74-B76E-1D7E9F5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8991D-6761-4045-907C-875DA23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26406-DB3F-4923-9B4D-E951650E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4AF32-0622-4E9A-BE1E-DE800E68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AD1982-B203-40DA-B9C6-2AE19294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948E9-48EB-4FD4-BF29-AD1FCD58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E357-95C5-444E-BBDA-8425D0FC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F2726-33B2-48BD-A33F-6486EFB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A11D7-EC2E-488E-811E-DA5BCB6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1F944-668C-4BA2-9E0F-870B08E5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F97F6-8954-4327-AF1C-C0272AC6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A13CF-19AE-4FE3-A9E6-6B74BE71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2BB10-2570-40E8-B9F7-15F1DDA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7FD65-1108-4E76-9721-543ABFCE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8689E-EE59-47F1-A110-E1539642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AAAD02-4E3A-4921-8AA6-1D28E85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DCC6B-75B2-42FE-9FF9-90C334DD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2BB6-FA9C-464E-AA70-C68E478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8630B-5BB9-41C5-95A1-8E56004F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99AF9-1922-4A77-839B-ADC9186D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46C05-7E3D-4BD5-BB42-6D54E7B0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C9724B-3C35-4C99-94E4-043EE58F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8B64FF-F048-4114-B106-B90968ED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150EF-42F0-4BD8-8634-3684F9FD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946E22-DD4D-48A6-859C-9197CF8B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A7716-F8AD-4BB3-893E-84C8DD1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FA0A1-457E-4447-86CA-D4A51A69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B51F1-E4AE-49F4-8DCD-4D5E7B29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B9DF-F3D6-4601-BE81-DD097557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7E89C-DDD9-49C6-8473-291A47EF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8CA4A-D443-4286-A8B1-0E90BF2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740D3-10FA-439E-81BE-C8BF7E1C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CED711-5CB9-4094-9DC7-E4136E53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86B50-34FD-49E7-BB48-082377DB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FFEF75-43D4-458A-83FB-4B3175AB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839AB2-9F06-478F-9651-DF1DD038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2035B-2FBB-4A2B-8BFA-8EA59B08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3B9F0-2943-450C-9993-4CF35EEC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BBED4-9126-4CA3-8D35-E18C7423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6801-B477-4475-B59A-552A723B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F04-E17E-4F29-AE4C-35CBF5C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4791E-8A82-46CF-8AC4-3AC6DF1D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EE890-53F6-4BA0-B02E-C54F07B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B4552-C8EE-4253-BA01-5788A198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FEF8F-95F9-41B8-96C3-78AEB2F1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FFAC32-EF71-4453-A871-A80EF194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710333-3CB5-44E6-ADFB-1890CCDB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4E79D-09BB-476C-9449-374D2D97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16895-4C81-42A5-AEE2-F4129C60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ACADA-38C2-463B-ADDB-D27BE6EC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5C771E-C272-49B4-B7C4-96F50F41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03C8-5585-470B-9FA8-FB93CCB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58DD84-B3FE-4B46-BA91-16FA00A7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FCAAA4-D54C-4B01-B9E1-FCB9D62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7664D6-79FA-461A-82AB-5E5AA9E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AD7E0-3BA0-4756-A560-5621ED4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8E3FB-A31A-4911-AA4A-91FC68A7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8FEB8-07E0-427B-80AE-232F8BB7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9B78B-33B8-4D88-BF21-33426565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D350F-B00F-453E-A14A-B6D068BC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6592C-D0D0-4D4F-A4D9-C741C0C8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C05C9-464A-44C2-8570-D9DDCBC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DAF7-0CC1-4BBE-BC1A-88F8F64B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BC3420-E205-4ED8-AB92-2F0E6D2E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350D6C-58E0-4BAC-9455-0A2C6869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19EEA-7B3F-487D-A9B4-AF613E8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3DF78D-BB51-4397-AD43-8E4FAC93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DB0A9-FB12-446A-BA80-6F9BF4C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24218B-CCBA-41BD-8A0F-FD889E44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20115-75F5-4CFE-A498-ACEA841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D827B7-7465-4B98-9B14-340D6865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0819FD-78E3-40C1-AD6D-53A2035C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33E583-3DB8-437B-B025-8267D17C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4620-70DF-452F-B0CB-C525D50C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69E7D8-A614-41D3-A251-BF1D8D55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F4FFEA-8D40-44CB-AA54-DD8CD67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274201-697D-4180-B248-DC77AB6E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66FA30-9F6D-4AA8-98F0-16138B13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97B5D-C518-465A-8683-D5E69C0C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4951B-C896-4F92-9A4E-62E98EEB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8B0317-5CB5-4556-9CF9-576A18B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C3CB9-6507-4FCA-8B1D-CE5BC560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3ED29-0741-47EC-80F0-0B51E824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8D3F6-F8C9-42CC-BC59-A3C428D2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43AB-3A33-4475-A02D-09D1444E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0DC1D-C0B2-4D35-AA88-E2B03CC5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FCB2B-6756-4681-9AEA-13CF632A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55005-5066-472E-895E-B01DA903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500214-62A1-49C0-8328-F570C88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A31E73-8D99-42E7-B4D7-6433CF74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B5858-374A-48B1-9B2E-50778ADD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83983-9B6D-45F1-AF35-835904AC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16964-AFA2-43C4-8F00-2A6BA39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2F0304-BCCF-4CFE-917E-5CDEDA3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83C112-20D2-4319-AD5A-57A0764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E46F9-6D46-4A96-9ADB-07C1693F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A8284-004D-4D11-8798-24458C5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EF4029-9755-459F-AF97-75907A70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B8C3F8-4CA9-4DCB-9B1E-755FE3A8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935F-3669-4A05-A291-B6AC4FE5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0BCE-4006-43CF-8CD4-9E2AFB31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46F1-FC8D-46D0-8B44-287D3BC8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2FD8F-50C5-4FAD-A8F9-205E61CF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403-F86B-4F1E-B124-8D59A61F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2D86-D7E5-47A2-9336-9D429174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F637-2A17-4290-ABD6-9E7C4D3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CAC1-DF4C-4E3E-ACBF-10DD9680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C394-D047-4D1F-9E96-DAB51708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6127-0078-4656-946C-0D74171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2A690-FAED-4170-8D84-AC02ABF6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E0BA6-6901-4BAA-8B13-48AB71BE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2FB5D-0DDE-409B-9BF2-076C449F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21D68-16FC-4C04-9E48-8D5F720B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9AC95-A307-449F-B609-BD57DAB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F03-47C7-4F69-AB3C-063EE17F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56FA9-2B8C-493D-8D63-D45DD9B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8C55D-A8EB-41F6-B78E-D85AE406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32118-5958-4E5A-B817-2376C18D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DFC4D-FA05-4908-B7E5-25BFE34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15D3A-BFE5-4260-B8E3-21EB958C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91F5-ACC2-4567-A902-62A111FF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6FB55-FB16-49F1-A299-2CF7BB84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DFF9-55C5-48DE-A887-53A1B17B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98706-FB0C-4D8F-BCD1-5D698CA39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220D8-FAE7-458F-9CD7-35D43F66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9A83-6A37-480F-A5FD-49729A14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D19AD-5025-41C6-8C46-CFF8590F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C580F-605E-45DD-9AF5-1F204776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D554-658F-41EE-B61B-D6072982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9877-3366-4DBF-AB25-F0EF3B7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79B2E-D5A7-4B1C-AE79-24A78D33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AA3B4-0FF4-4490-98CE-01C0217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1869-4368-4127-A1F8-024E5CE2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CD7C1-724B-4125-8586-1239F4A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08B8E-71C1-4A1D-BF36-65E6495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F6813-1931-4EA5-9502-0476AD90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6B-57F6-4964-A4E8-9F18588D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5C60-8910-4934-96F3-4BF87004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0ED5D-DF31-455F-8777-0D3FBA4A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26584-DD5A-4E4B-809B-A1F88FE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8E422-96A1-4A00-9883-69E0EF03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A5E32-E114-410E-B5DC-1479684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16D0-A706-4BF2-93B4-C9CFE75C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A809F-A5FC-44C8-B712-29629EBB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CFD1-057B-442F-93F3-BAAB0B30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DDD98-6E83-4A63-9866-276513F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10FDA-6924-4510-AFD3-E2A2DE9B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FCE-84F1-471B-9756-6EC458B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F9212-84FA-4348-9BAD-F294902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9750D-93B0-46B1-83D2-68D61F2F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4A418-767D-4C5B-B691-498C8F13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C1FB5-3378-4515-A628-596E1613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DC8BC-A4E9-45ED-AF27-7C7CB439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60C65-7354-446B-975D-252A7CFD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4962-97C1-4A87-8EF9-BECD9234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2EC42-C674-423D-A0DC-14B87CF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3AA2A-0FD4-4053-A110-048AE9D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BAF7C-8184-481B-BF75-737788A4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9A5-AE01-47C3-943C-6475C64F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0395D-A96C-4FB0-BD6B-0F1BE20C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11AF1-2048-44F0-9C4E-9209C6B7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484A-5C3B-4FAE-8835-2432AEB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3AB4D-58D9-4865-8AB3-472E6B34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21AA2-36C0-49BD-B1E1-B919B592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0E94E-3E6A-4B0C-A3CE-F083308B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F474-26E1-430D-95D0-9DCE88D1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54474-3A21-4298-8764-58835C4C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84000-E4D5-4581-86D8-9FC654F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C4B2E-1083-41B9-8BAB-200109EB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778-2F80-4C95-8ED2-F128941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DD04-B5E6-4A2D-B327-B01EB1A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486C2-CCEB-44D5-89B7-888AC2DB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33214-82A6-434F-93C2-8FFCAE75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7EB00-B5B8-4CF1-827E-AFE745A0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322C6-73ED-4153-B8D0-086BF79D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09F83-F250-489B-A7A9-D9B295E8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60E7-9BF0-461C-9B0D-12AE60C8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EC371-FCCE-4069-AAFD-E6C5D1C8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B6662-F795-4087-AF6F-9682A815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EE748-250C-4FF4-AC26-E1063ADA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E79E-B702-4EBF-A75F-57328D2E2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E575-D055-4770-8FC3-25B6F22DF1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D91E-DC2F-428D-9155-28CE60A2A1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EA75-AFB9-4E19-999F-3A735E21F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0F2D-F3D8-4976-9C88-17199C3F8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2262-C29E-419F-B3BD-9A80A8C9C0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DDC-35BC-4DF8-9FB4-2224B98DB8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095C-CC3B-4529-8BE5-34E895B080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174-7274-4CAE-827F-849A7D0BA3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6840" y="305280"/>
            <a:ext cx="1312560" cy="1675440"/>
            <a:chOff x="6840" y="305280"/>
            <a:chExt cx="1312560" cy="167544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5440" y="135576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58480" y="391680"/>
              <a:ext cx="72864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0640" y="32292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4680" y="842760"/>
              <a:ext cx="40032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4040" y="149004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D5CE-DBAE-489A-B3C3-F26EF70E38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9F88-DEAC-4BA8-9C2A-52F5B089B2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5440"/>
            <a:ext cx="1127520" cy="1044000"/>
            <a:chOff x="8055360" y="5725440"/>
            <a:chExt cx="1127520" cy="104400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040" y="5725440"/>
              <a:ext cx="597960" cy="968040"/>
              <a:chOff x="8456040" y="5725440"/>
              <a:chExt cx="59796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3920" y="632916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7120"/>
                <a:ext cx="54432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680" y="576576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720" y="6070680"/>
                <a:ext cx="29916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0680"/>
                <a:ext cx="32256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4040"/>
              <a:ext cx="1127520" cy="905400"/>
              <a:chOff x="8055360" y="586404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4840" y="5953320"/>
                <a:ext cx="544680" cy="7261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56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9185-518A-4D3E-9686-56E7EC09F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D22-0940-4BA8-BF45-68DFADF129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F77-E82B-4F0D-A322-80CD59D8B5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DD17-9157-4C77-9A53-4381BE2EE6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120" y="5384520"/>
            <a:ext cx="997920" cy="1126800"/>
            <a:chOff x="18612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3680" y="5384520"/>
              <a:ext cx="616320" cy="1043640"/>
              <a:chOff x="283680" y="5384520"/>
              <a:chExt cx="616320" cy="104364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1080" y="604548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9320" y="5536800"/>
                <a:ext cx="545040" cy="42948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1560" y="5435280"/>
                <a:ext cx="221760" cy="1706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760" y="5771160"/>
                <a:ext cx="299520" cy="23868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480" y="6157800"/>
                <a:ext cx="32328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120" y="5572440"/>
              <a:ext cx="997920" cy="938880"/>
              <a:chOff x="186120" y="5572440"/>
              <a:chExt cx="997920" cy="93888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2320" y="5643000"/>
                <a:ext cx="544680" cy="72720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520" y="622008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2000" y="6239520"/>
                <a:ext cx="17460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EE0B-B69B-4683-8AE9-D0FC2146F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0CA5-DD34-431D-A4FE-F33EED44F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2A53-26AA-4404-8C2F-CE91CC95A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FCDA-0B97-46C3-B88B-95B3563C93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B8B-CD2D-4E14-BF29-26BE5099A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CAA6-4E51-4B11-B9C0-C298184E1E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4B93-173E-467B-808D-961D82CA96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1929-30D5-4FFE-A5E4-7DB4E6902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67F-DBC9-4EE1-AB61-43723ACFE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50E0-D527-433F-8EB7-138D736AEE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4680"/>
            <a:ext cx="2348280" cy="2297160"/>
            <a:chOff x="7144920" y="441468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2880" y="4414680"/>
              <a:ext cx="1362960" cy="2297160"/>
              <a:chOff x="7652880" y="441468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440" y="587124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040" y="475200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040" y="452736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160" y="526716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240" y="611820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62DA-394F-4EFD-9AE9-B58D3418C7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39A-0BA8-496E-A189-26D895DF80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785-6262-4CA3-A7AC-9ADE56F7E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13F4-A39F-4F8F-A5BF-C07682485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2A6-79F7-49D0-9B8B-29EA3A744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CA79-5EEA-4FF2-A30D-9823149CA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6FDA-10BF-4F5A-AC38-DC3826444B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EC0-ACBE-4CEC-A7CA-5CED714D5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E498-BF2F-450B-9679-8D7952DF3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DE4D-F6FB-4886-A21C-6CB04DD70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D7F6-08BF-46CD-8CBB-FAFF2CBF8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A2E6-C2E1-450E-8AC0-44C4FF88E3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490-882E-4D48-B286-6CE518383C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9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3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文本框 25" descr=""/>
          <p:cNvPicPr/>
          <p:nvPr/>
        </p:nvPicPr>
        <p:blipFill>
          <a:blip r:embed="rId2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47" descr=""/>
          <p:cNvPicPr/>
          <p:nvPr/>
        </p:nvPicPr>
        <p:blipFill>
          <a:blip r:embed="rId3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9" descr=""/>
          <p:cNvPicPr/>
          <p:nvPr/>
        </p:nvPicPr>
        <p:blipFill>
          <a:blip r:embed="rId4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51" descr=""/>
          <p:cNvPicPr/>
          <p:nvPr/>
        </p:nvPicPr>
        <p:blipFill>
          <a:blip r:embed="rId5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2" name="组合 5" descr=""/>
          <p:cNvPicPr/>
          <p:nvPr/>
        </p:nvPicPr>
        <p:blipFill>
          <a:blip r:embed="rId6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6013-2099-41AA-8351-03A8A8E506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4CE9-6428-43C4-ACAC-C12385072F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3078" descr=""/>
          <p:cNvPicPr/>
          <p:nvPr/>
        </p:nvPicPr>
        <p:blipFill>
          <a:blip r:embed="rId1"/>
          <a:stretch/>
        </p:blipFill>
        <p:spPr>
          <a:xfrm>
            <a:off x="81000" y="2957400"/>
            <a:ext cx="89820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图片 56321" descr=""/>
          <p:cNvPicPr/>
          <p:nvPr/>
        </p:nvPicPr>
        <p:blipFill>
          <a:blip r:embed="rId1"/>
          <a:stretch/>
        </p:blipFill>
        <p:spPr>
          <a:xfrm>
            <a:off x="500040" y="1008000"/>
            <a:ext cx="8077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55297" descr=""/>
          <p:cNvPicPr/>
          <p:nvPr/>
        </p:nvPicPr>
        <p:blipFill>
          <a:blip r:embed="rId1"/>
          <a:stretch/>
        </p:blipFill>
        <p:spPr>
          <a:xfrm>
            <a:off x="357120" y="361800"/>
            <a:ext cx="81723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4273" descr=""/>
          <p:cNvPicPr/>
          <p:nvPr/>
        </p:nvPicPr>
        <p:blipFill>
          <a:blip r:embed="rId1"/>
          <a:stretch/>
        </p:blipFill>
        <p:spPr>
          <a:xfrm>
            <a:off x="554040" y="839880"/>
            <a:ext cx="8001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3249" descr=""/>
          <p:cNvPicPr/>
          <p:nvPr/>
        </p:nvPicPr>
        <p:blipFill>
          <a:blip r:embed="rId1"/>
          <a:stretch/>
        </p:blipFill>
        <p:spPr>
          <a:xfrm>
            <a:off x="474840" y="1158840"/>
            <a:ext cx="8038800" cy="142884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53250" descr=""/>
          <p:cNvPicPr/>
          <p:nvPr/>
        </p:nvPicPr>
        <p:blipFill>
          <a:blip r:embed="rId2"/>
          <a:stretch/>
        </p:blipFill>
        <p:spPr>
          <a:xfrm>
            <a:off x="318960" y="2630520"/>
            <a:ext cx="8143920" cy="3990960"/>
          </a:xfrm>
          <a:prstGeom prst="rect">
            <a:avLst/>
          </a:prstGeom>
          <a:ln w="0">
            <a:noFill/>
          </a:ln>
        </p:spPr>
      </p:pic>
      <p:sp>
        <p:nvSpPr>
          <p:cNvPr id="1053" name="矩形 53251"/>
          <p:cNvSpPr/>
          <p:nvPr/>
        </p:nvSpPr>
        <p:spPr>
          <a:xfrm>
            <a:off x="1168560" y="4579920"/>
            <a:ext cx="72594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3252"/>
          <p:cNvSpPr/>
          <p:nvPr/>
        </p:nvSpPr>
        <p:spPr>
          <a:xfrm>
            <a:off x="858960" y="5091120"/>
            <a:ext cx="758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3253"/>
          <p:cNvSpPr/>
          <p:nvPr/>
        </p:nvSpPr>
        <p:spPr>
          <a:xfrm>
            <a:off x="816120" y="5586480"/>
            <a:ext cx="7586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3254"/>
          <p:cNvSpPr/>
          <p:nvPr/>
        </p:nvSpPr>
        <p:spPr>
          <a:xfrm>
            <a:off x="866880" y="6081840"/>
            <a:ext cx="4473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2225" descr=""/>
          <p:cNvPicPr/>
          <p:nvPr/>
        </p:nvPicPr>
        <p:blipFill>
          <a:blip r:embed="rId1"/>
          <a:stretch/>
        </p:blipFill>
        <p:spPr>
          <a:xfrm>
            <a:off x="320760" y="1063800"/>
            <a:ext cx="8124840" cy="3057480"/>
          </a:xfrm>
          <a:prstGeom prst="rect">
            <a:avLst/>
          </a:prstGeom>
          <a:ln w="0">
            <a:noFill/>
          </a:ln>
        </p:spPr>
      </p:pic>
      <p:sp>
        <p:nvSpPr>
          <p:cNvPr id="1058" name="矩形 52226"/>
          <p:cNvSpPr/>
          <p:nvPr/>
        </p:nvSpPr>
        <p:spPr>
          <a:xfrm>
            <a:off x="1035000" y="2616120"/>
            <a:ext cx="73947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2227"/>
          <p:cNvSpPr/>
          <p:nvPr/>
        </p:nvSpPr>
        <p:spPr>
          <a:xfrm>
            <a:off x="782640" y="3110040"/>
            <a:ext cx="75531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2228"/>
          <p:cNvSpPr/>
          <p:nvPr/>
        </p:nvSpPr>
        <p:spPr>
          <a:xfrm>
            <a:off x="741240" y="3605040"/>
            <a:ext cx="3073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51201" descr=""/>
          <p:cNvPicPr/>
          <p:nvPr/>
        </p:nvPicPr>
        <p:blipFill>
          <a:blip r:embed="rId1"/>
          <a:stretch/>
        </p:blipFill>
        <p:spPr>
          <a:xfrm>
            <a:off x="216000" y="92556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1062" name="矩形 51202"/>
          <p:cNvSpPr/>
          <p:nvPr/>
        </p:nvSpPr>
        <p:spPr>
          <a:xfrm>
            <a:off x="950760" y="3900600"/>
            <a:ext cx="7285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51203"/>
          <p:cNvSpPr/>
          <p:nvPr/>
        </p:nvSpPr>
        <p:spPr>
          <a:xfrm>
            <a:off x="700200" y="438768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51204"/>
          <p:cNvSpPr/>
          <p:nvPr/>
        </p:nvSpPr>
        <p:spPr>
          <a:xfrm>
            <a:off x="692280" y="4898880"/>
            <a:ext cx="7519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51205"/>
          <p:cNvSpPr/>
          <p:nvPr/>
        </p:nvSpPr>
        <p:spPr>
          <a:xfrm>
            <a:off x="733320" y="539424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51206"/>
          <p:cNvSpPr/>
          <p:nvPr/>
        </p:nvSpPr>
        <p:spPr>
          <a:xfrm>
            <a:off x="590400" y="5897520"/>
            <a:ext cx="75200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50177" descr=""/>
          <p:cNvPicPr/>
          <p:nvPr/>
        </p:nvPicPr>
        <p:blipFill>
          <a:blip r:embed="rId1"/>
          <a:stretch/>
        </p:blipFill>
        <p:spPr>
          <a:xfrm>
            <a:off x="334800" y="9255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3729" descr=""/>
          <p:cNvPicPr/>
          <p:nvPr/>
        </p:nvPicPr>
        <p:blipFill>
          <a:blip r:embed="rId1"/>
          <a:stretch/>
        </p:blipFill>
        <p:spPr>
          <a:xfrm>
            <a:off x="755640" y="812880"/>
            <a:ext cx="7648560" cy="6019560"/>
          </a:xfrm>
          <a:prstGeom prst="rect">
            <a:avLst/>
          </a:prstGeom>
          <a:ln w="0">
            <a:noFill/>
          </a:ln>
        </p:spPr>
      </p:pic>
      <p:sp>
        <p:nvSpPr>
          <p:cNvPr id="1069" name="矩形 73730"/>
          <p:cNvSpPr/>
          <p:nvPr/>
        </p:nvSpPr>
        <p:spPr>
          <a:xfrm>
            <a:off x="1252440" y="3724200"/>
            <a:ext cx="70088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3731"/>
          <p:cNvSpPr/>
          <p:nvPr/>
        </p:nvSpPr>
        <p:spPr>
          <a:xfrm>
            <a:off x="950760" y="423540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3732"/>
          <p:cNvSpPr/>
          <p:nvPr/>
        </p:nvSpPr>
        <p:spPr>
          <a:xfrm>
            <a:off x="907920" y="473076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73733"/>
          <p:cNvSpPr/>
          <p:nvPr/>
        </p:nvSpPr>
        <p:spPr>
          <a:xfrm>
            <a:off x="917640" y="526716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73734"/>
          <p:cNvSpPr/>
          <p:nvPr/>
        </p:nvSpPr>
        <p:spPr>
          <a:xfrm>
            <a:off x="882720" y="574524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73735"/>
          <p:cNvSpPr/>
          <p:nvPr/>
        </p:nvSpPr>
        <p:spPr>
          <a:xfrm>
            <a:off x="874800" y="6273720"/>
            <a:ext cx="74041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451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086680" cy="5838840"/>
          </a:xfrm>
          <a:prstGeom prst="rect">
            <a:avLst/>
          </a:prstGeom>
          <a:ln w="0">
            <a:noFill/>
          </a:ln>
        </p:spPr>
      </p:pic>
      <p:sp>
        <p:nvSpPr>
          <p:cNvPr id="1024" name="矩形 64514"/>
          <p:cNvSpPr/>
          <p:nvPr/>
        </p:nvSpPr>
        <p:spPr>
          <a:xfrm>
            <a:off x="6580080" y="182088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63489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153280" cy="28670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63490"/>
          <p:cNvSpPr/>
          <p:nvPr/>
        </p:nvSpPr>
        <p:spPr>
          <a:xfrm>
            <a:off x="5303880" y="93024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62465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077320" cy="4915080"/>
          </a:xfrm>
          <a:prstGeom prst="rect">
            <a:avLst/>
          </a:prstGeom>
          <a:ln w="0">
            <a:noFill/>
          </a:ln>
        </p:spPr>
      </p:pic>
      <p:sp>
        <p:nvSpPr>
          <p:cNvPr id="1028" name="矩形 62466"/>
          <p:cNvSpPr/>
          <p:nvPr/>
        </p:nvSpPr>
        <p:spPr>
          <a:xfrm>
            <a:off x="1847880" y="1467000"/>
            <a:ext cx="43164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61441" descr=""/>
          <p:cNvPicPr/>
          <p:nvPr/>
        </p:nvPicPr>
        <p:blipFill>
          <a:blip r:embed="rId1"/>
          <a:stretch/>
        </p:blipFill>
        <p:spPr>
          <a:xfrm>
            <a:off x="322200" y="1011240"/>
            <a:ext cx="8105760" cy="19810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61442" descr=""/>
          <p:cNvPicPr/>
          <p:nvPr/>
        </p:nvPicPr>
        <p:blipFill>
          <a:blip r:embed="rId2"/>
          <a:stretch/>
        </p:blipFill>
        <p:spPr>
          <a:xfrm>
            <a:off x="353880" y="3035160"/>
            <a:ext cx="7972560" cy="34196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61443"/>
          <p:cNvSpPr/>
          <p:nvPr/>
        </p:nvSpPr>
        <p:spPr>
          <a:xfrm>
            <a:off x="5614920" y="100656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60417" descr=""/>
          <p:cNvPicPr/>
          <p:nvPr/>
        </p:nvPicPr>
        <p:blipFill>
          <a:blip r:embed="rId1"/>
          <a:stretch/>
        </p:blipFill>
        <p:spPr>
          <a:xfrm>
            <a:off x="295200" y="876240"/>
            <a:ext cx="8077320" cy="35337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60418"/>
          <p:cNvSpPr/>
          <p:nvPr/>
        </p:nvSpPr>
        <p:spPr>
          <a:xfrm>
            <a:off x="6662880" y="855720"/>
            <a:ext cx="4316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9393" descr=""/>
          <p:cNvPicPr/>
          <p:nvPr/>
        </p:nvPicPr>
        <p:blipFill>
          <a:blip r:embed="rId1"/>
          <a:stretch/>
        </p:blipFill>
        <p:spPr>
          <a:xfrm>
            <a:off x="298440" y="900000"/>
            <a:ext cx="8172360" cy="5658120"/>
          </a:xfrm>
          <a:prstGeom prst="rect">
            <a:avLst/>
          </a:prstGeom>
          <a:ln w="0">
            <a:noFill/>
          </a:ln>
        </p:spPr>
      </p:pic>
      <p:sp>
        <p:nvSpPr>
          <p:cNvPr id="1035" name="矩形 59394"/>
          <p:cNvSpPr/>
          <p:nvPr/>
        </p:nvSpPr>
        <p:spPr>
          <a:xfrm>
            <a:off x="1101600" y="394164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59395"/>
          <p:cNvSpPr/>
          <p:nvPr/>
        </p:nvSpPr>
        <p:spPr>
          <a:xfrm>
            <a:off x="857160" y="447048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59396"/>
          <p:cNvSpPr/>
          <p:nvPr/>
        </p:nvSpPr>
        <p:spPr>
          <a:xfrm>
            <a:off x="1117440" y="4991040"/>
            <a:ext cx="72439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59397"/>
          <p:cNvSpPr/>
          <p:nvPr/>
        </p:nvSpPr>
        <p:spPr>
          <a:xfrm>
            <a:off x="841320" y="5484960"/>
            <a:ext cx="75121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59398"/>
          <p:cNvSpPr/>
          <p:nvPr/>
        </p:nvSpPr>
        <p:spPr>
          <a:xfrm>
            <a:off x="798480" y="5996160"/>
            <a:ext cx="751212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8369" descr=""/>
          <p:cNvPicPr/>
          <p:nvPr/>
        </p:nvPicPr>
        <p:blipFill>
          <a:blip r:embed="rId1"/>
          <a:stretch/>
        </p:blipFill>
        <p:spPr>
          <a:xfrm>
            <a:off x="630360" y="988920"/>
            <a:ext cx="7829280" cy="31719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58370"/>
          <p:cNvSpPr/>
          <p:nvPr/>
        </p:nvSpPr>
        <p:spPr>
          <a:xfrm>
            <a:off x="1109520" y="973080"/>
            <a:ext cx="7336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8371"/>
          <p:cNvSpPr/>
          <p:nvPr/>
        </p:nvSpPr>
        <p:spPr>
          <a:xfrm>
            <a:off x="790560" y="1476360"/>
            <a:ext cx="73357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58372"/>
          <p:cNvSpPr/>
          <p:nvPr/>
        </p:nvSpPr>
        <p:spPr>
          <a:xfrm>
            <a:off x="1050840" y="1996920"/>
            <a:ext cx="73360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58373"/>
          <p:cNvSpPr/>
          <p:nvPr/>
        </p:nvSpPr>
        <p:spPr>
          <a:xfrm>
            <a:off x="841320" y="2500200"/>
            <a:ext cx="753768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58374"/>
          <p:cNvSpPr/>
          <p:nvPr/>
        </p:nvSpPr>
        <p:spPr>
          <a:xfrm>
            <a:off x="766800" y="3029040"/>
            <a:ext cx="753732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58375"/>
          <p:cNvSpPr/>
          <p:nvPr/>
        </p:nvSpPr>
        <p:spPr>
          <a:xfrm>
            <a:off x="892080" y="3530520"/>
            <a:ext cx="432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7345" descr=""/>
          <p:cNvPicPr/>
          <p:nvPr/>
        </p:nvPicPr>
        <p:blipFill>
          <a:blip r:embed="rId1"/>
          <a:stretch/>
        </p:blipFill>
        <p:spPr>
          <a:xfrm>
            <a:off x="360360" y="938160"/>
            <a:ext cx="8115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5T02:52:09Z</dcterms:modified>
  <cp:revision>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